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DC6-5054-45E8-9628-ABF6D358A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947-F501-43B1-8740-325018D9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B0A9-86DE-4F08-873B-4282E718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F43-C8F4-4544-A67C-17BF2977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BCA-FEF0-4D97-AF85-25E6F1F2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94D9-F096-4CAF-836C-E7B0DD6D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70D-C0BD-42BF-A078-FA005888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4D9F-1298-42AC-8879-EA7AEB9F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0A84-FF1F-4695-AB23-E48A5EBA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F8B-828E-4F69-9994-75257604B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DE23-F19E-476D-9272-4EE74E8E7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6E80-CC0A-48E7-8ECE-366AE0A92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5E87-4BBA-45B4-947B-AE2E954DE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E8BA-F335-435E-B5CF-FA07957EF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0638-60B0-48BA-BD56-B825030F7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4D8D-1052-449D-BBD6-740AB9B7A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E77D-2929-4E55-B6B8-393C60905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B126-1DF1-4843-8225-9043DDBD2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841E-02D3-4342-841F-9926154D8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FDC3-BEA5-4555-8E7C-E85C58DE43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869E-2C87-43FD-8A56-E69AE6B0D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49D3-3C6C-4770-9E87-B96C8EDA3F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06BC-BB71-4BFA-B511-935D2A38D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704C3-09F9-49CA-9672-C0F14DE5ADB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F9DD8-8FC8-4F00-9484-96831D3ED7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CA047-A0C4-45BA-98F6-0AE596100E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46897-4D7C-4426-9CAB-4A90072ABA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0B2D4-476F-489B-87D5-49E23851AB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26C2-477E-4C18-BB27-755DD58D41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9F9E2-6CCE-4D7E-8B1D-1D44826745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3A4B-FD9F-42CA-A1FD-A8AE3273A9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5183-6054-4C85-BDAF-2DCF212C76E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5CE27-60C2-4371-B1CC-F68F310F7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20D15-0C87-4ED7-945A-5EC9E55316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982F-A224-4153-B7EE-6B36456AB1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F8DBB-ED83-49C6-A13E-4CF6A7D324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8260-825C-49B5-AA0B-F0B19391A8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799EE-E473-49D9-9E52-BEE0F1ACE9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708F0-407B-4AB0-A5F1-7A6E4253B8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9072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5604A-E2B8-4F59-9B0F-B05B69B8432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9C3DC-C8B3-4C2F-BAF9-89C8403759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BD14B-43A5-45AC-A02E-F6A0A53DD4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5608-D9E1-4E6A-8C5B-7F7B22CDD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F98AE-1D6E-4879-9B5E-9A64624A47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157F-31F6-40BA-9B33-AF7CDF44EE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928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948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928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948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3D18A-FBB6-4504-814B-66E1CAAE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52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2F59A845-5FB0-4D91-95F9-378093D146F2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1C646D60-F1F3-4115-B43A-67F16E4BB18B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8"/>
          <p:cNvSpPr/>
          <p:nvPr/>
        </p:nvSpPr>
        <p:spPr>
          <a:xfrm>
            <a:off x="990720" y="1447920"/>
            <a:ext cx="7696080" cy="0"/>
          </a:xfrm>
          <a:prstGeom prst="line">
            <a:avLst/>
          </a:prstGeom>
          <a:ln w="38160">
            <a:solidFill>
              <a:srgbClr val="6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9360">
            <a:solidFill>
              <a:srgbClr val="604b9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3"/>
          </p:nvPr>
        </p:nvSpPr>
        <p:spPr>
          <a:xfrm>
            <a:off x="1142640" y="6244920"/>
            <a:ext cx="754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bb921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28ED93A-8643-44EE-9530-01893AA6B4AC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new layout art3.png"/>
          <p:cNvPicPr/>
          <p:nvPr/>
        </p:nvPicPr>
        <p:blipFill>
          <a:blip r:embed="rId3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B4F38EB9-ADF4-40B9-8ACB-108CBD2C582D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new layout art3.png"/>
          <p:cNvPicPr/>
          <p:nvPr/>
        </p:nvPicPr>
        <p:blipFill>
          <a:blip r:embed="rId2"/>
          <a:stretch/>
        </p:blipFill>
        <p:spPr>
          <a:xfrm>
            <a:off x="0" y="0"/>
            <a:ext cx="93024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7440" y="2743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60640" y="1600200"/>
            <a:ext cx="752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b9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5"/>
          </p:nvPr>
        </p:nvSpPr>
        <p:spPr>
          <a:xfrm>
            <a:off x="6539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abb92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Slide </a:t>
            </a:r>
            <a:fld id="{EEBB10AC-A99C-4CB3-A969-9153DB6A364B}" type="slidenum">
              <a:rPr b="1" lang="en-US" sz="1400" spc="-1" strike="noStrike">
                <a:solidFill>
                  <a:srgbClr val="abb9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89000" y="6008400"/>
            <a:ext cx="87660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1: Digital Communication Tool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– Less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032440" y="6566040"/>
            <a:ext cx="411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, 2006 South-Western, 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in and Operating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ystem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22360" y="1600200"/>
            <a:ext cx="833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software on any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rols th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mputer to run other type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Nam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dentifies you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swo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s a series of letters and/or numbers and symbols that you to key to gai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027080" y="6259680"/>
            <a:ext cx="7543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861CE38-CA63-4B04-8832-38ED9F46A742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in and Operating</a:t>
            </a:r>
            <a:br>
              <a:rPr sz="4000"/>
            </a:b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ystems Basic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cure. Never share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others. Do not ask them for their pass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neak someone else’s password, even as a p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a password you will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4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eate one that someone else can guess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1143000" y="624528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936849DC-004D-4790-A595-FD13CC11D92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The Windows User Interface (UI)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18960" y="1599840"/>
            <a:ext cx="84614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Interface (UI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llows users (like you) to give commands to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User Interface (GUI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cons to activate any file, application, or command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c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ctures that represent applications, files, an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kto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main screen for the Windows UI (an on-screen work 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1027080" y="620244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508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Slide </a:t>
            </a:r>
            <a:fld id="{1F18B868-8465-4BDA-B597-82987F53A82C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Windows User Interface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pic>
        <p:nvPicPr>
          <p:cNvPr id="263" name="Content Placeholder 4" descr="ScreenShot014.png"/>
          <p:cNvPicPr/>
          <p:nvPr/>
        </p:nvPicPr>
        <p:blipFill>
          <a:blip r:embed="rId1"/>
          <a:stretch/>
        </p:blipFill>
        <p:spPr>
          <a:xfrm>
            <a:off x="1004760" y="1771560"/>
            <a:ext cx="7696440" cy="383400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E0668A3D-3EB2-4C02-A6F7-F302CB8EAD46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36360" y="272880"/>
            <a:ext cx="77295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Calibri"/>
              </a:rPr>
              <a:t>Mousing Around</a:t>
            </a:r>
            <a:endParaRPr b="0" lang="en-US" sz="4000" spc="-1" strike="noStrike">
              <a:solidFill>
                <a:srgbClr val="c23191"/>
              </a:solidFill>
              <a:latin typeface="Calibri"/>
            </a:endParaRPr>
          </a:p>
        </p:txBody>
      </p:sp>
      <p:pic>
        <p:nvPicPr>
          <p:cNvPr id="266" name="Content Placeholder 5" descr="ScreenShot015.png"/>
          <p:cNvPicPr/>
          <p:nvPr/>
        </p:nvPicPr>
        <p:blipFill>
          <a:blip r:embed="rId1"/>
          <a:stretch/>
        </p:blipFill>
        <p:spPr>
          <a:xfrm>
            <a:off x="2209680" y="1461960"/>
            <a:ext cx="5112000" cy="21002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50800" y="3657240"/>
            <a:ext cx="73742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ft-click to select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-click to open an application, a file, or an 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and drag objects around the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-click to open pop-up me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AD2B5E92-CA3A-49CB-A319-357ED532EE00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Logging Out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your computer is on, your OS, applications, and data are stored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: Random Access Memor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uter is turned off, the memory in RAM is erased/cleared.  All unsaved data will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4BE18F0C-A438-4975-B96E-F783C9D6796A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ut Down Menu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360" y="1600200"/>
            <a:ext cx="60195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your information in memory while allowing another user to lo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log off the system without shutting dow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s your computer to keep your information safe while you ar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"/>
          <a:stretch/>
        </p:blipFill>
        <p:spPr>
          <a:xfrm>
            <a:off x="7209000" y="1982880"/>
            <a:ext cx="1412640" cy="2276280"/>
          </a:xfrm>
          <a:prstGeom prst="rect">
            <a:avLst/>
          </a:prstGeom>
          <a:ln w="0">
            <a:noFill/>
          </a:ln>
        </p:spPr>
      </p:pic>
      <p:cxnSp>
        <p:nvCxnSpPr>
          <p:cNvPr id="275" name="Straight Arrow Connector 16"/>
          <p:cNvCxnSpPr/>
          <p:nvPr/>
        </p:nvCxnSpPr>
        <p:spPr>
          <a:xfrm flipV="1">
            <a:off x="5457960" y="2176560"/>
            <a:ext cx="2002320" cy="6829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76" name="Straight Arrow Connector 18"/>
          <p:cNvCxnSpPr/>
          <p:nvPr/>
        </p:nvCxnSpPr>
        <p:spPr>
          <a:xfrm flipV="1">
            <a:off x="6103800" y="2496240"/>
            <a:ext cx="1386720" cy="12121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77" name="Straight Arrow Connector 21"/>
          <p:cNvCxnSpPr/>
          <p:nvPr/>
        </p:nvCxnSpPr>
        <p:spPr>
          <a:xfrm flipV="1">
            <a:off x="6326640" y="2770920"/>
            <a:ext cx="1191240" cy="206316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sp>
        <p:nvSpPr>
          <p:cNvPr id="278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40958F98-3ACF-4A45-94FD-9AE57E185C08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23191"/>
                </a:solidFill>
                <a:latin typeface="Arial"/>
              </a:rPr>
              <a:t>Shut Down Menu Options</a:t>
            </a:r>
            <a:endParaRPr b="0" lang="en-US" sz="4000" spc="-1" strike="noStrike">
              <a:solidFill>
                <a:srgbClr val="c2319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360" y="1600200"/>
            <a:ext cx="60195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ts down completely and then rest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your computer to “slee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information and shuts dow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04b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turns off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"/>
          <p:cNvPicPr/>
          <p:nvPr/>
        </p:nvPicPr>
        <p:blipFill>
          <a:blip r:embed="rId1"/>
          <a:stretch/>
        </p:blipFill>
        <p:spPr>
          <a:xfrm>
            <a:off x="7209000" y="1982880"/>
            <a:ext cx="1412640" cy="2276280"/>
          </a:xfrm>
          <a:prstGeom prst="rect">
            <a:avLst/>
          </a:prstGeom>
          <a:ln w="0">
            <a:noFill/>
          </a:ln>
        </p:spPr>
      </p:pic>
      <p:cxnSp>
        <p:nvCxnSpPr>
          <p:cNvPr id="282" name="Straight Arrow Connector 16"/>
          <p:cNvCxnSpPr/>
          <p:nvPr/>
        </p:nvCxnSpPr>
        <p:spPr>
          <a:xfrm>
            <a:off x="3903840" y="2350800"/>
            <a:ext cx="3629520" cy="74052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3" name="Straight Arrow Connector 18"/>
          <p:cNvCxnSpPr/>
          <p:nvPr/>
        </p:nvCxnSpPr>
        <p:spPr>
          <a:xfrm>
            <a:off x="6748560" y="3135240"/>
            <a:ext cx="799200" cy="33408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4" name="Straight Arrow Connector 21"/>
          <p:cNvCxnSpPr/>
          <p:nvPr/>
        </p:nvCxnSpPr>
        <p:spPr>
          <a:xfrm flipV="1">
            <a:off x="5209920" y="3801600"/>
            <a:ext cx="2367720" cy="26280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cxnSp>
        <p:nvCxnSpPr>
          <p:cNvPr id="285" name="Straight Arrow Connector 24"/>
          <p:cNvCxnSpPr/>
          <p:nvPr/>
        </p:nvCxnSpPr>
        <p:spPr>
          <a:xfrm flipV="1">
            <a:off x="5732640" y="4136760"/>
            <a:ext cx="1829520" cy="813600"/>
          </a:xfrm>
          <a:prstGeom prst="straightConnector1">
            <a:avLst/>
          </a:prstGeom>
          <a:ln w="50760">
            <a:solidFill>
              <a:srgbClr val="d13c45"/>
            </a:solidFill>
            <a:miter/>
            <a:tailEnd len="med" type="triangle" w="med"/>
          </a:ln>
        </p:spPr>
      </p:cxnSp>
      <p:sp>
        <p:nvSpPr>
          <p:cNvPr id="286" name="Footer Placeholder 3"/>
          <p:cNvSpPr/>
          <p:nvPr/>
        </p:nvSpPr>
        <p:spPr>
          <a:xfrm>
            <a:off x="928800" y="6245280"/>
            <a:ext cx="77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Lesson 2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abb921"/>
                </a:solidFill>
                <a:latin typeface="Arial"/>
              </a:rPr>
              <a:t>           Slide </a:t>
            </a:r>
            <a:fld id="{99172640-18EB-4BAB-85AE-C412E6600E13}" type="slidenum">
              <a:rPr b="1" lang="en-US" sz="1400" spc="-1" strike="noStrike">
                <a:solidFill>
                  <a:srgbClr val="abb92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9:37:58Z</dcterms:created>
  <dc:creator>Jean Bissell</dc:creator>
  <dc:description>Copyright 2006 South-Western/Thomson</dc:description>
  <dc:language>en-US</dc:language>
  <cp:lastModifiedBy>Lenessa Keehn</cp:lastModifiedBy>
  <dcterms:modified xsi:type="dcterms:W3CDTF">2011-03-01T15:26:21Z</dcterms:modified>
  <cp:revision>68</cp:revision>
  <dc:subject/>
  <dc:title>Slide 1</dc:title>
</cp:coreProperties>
</file>